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4B5-3C50-4A0F-80B8-2C48E0E1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1FC-DD41-4D53-BF7A-A6C190BF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D70-A170-4AB8-B060-FC44CABA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508-2F05-434E-8C76-C5D0B037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53D-9714-4744-B574-E6583829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F77-7034-4B13-847F-110063B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829-5372-4B66-9F0C-5F6275A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C50-880E-4D86-8D36-8751CE4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AF9-E983-4841-99DB-783EBDC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580-5094-433A-A767-C04A6DB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77E-9A06-4582-87D5-8E55139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1D9-6F17-405B-BF8A-6A02ED8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AF4-BE49-483F-8CE6-0CC2DB529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2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loor plan of your DREAM APARTMENT. It must be 1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br>
              <a:rPr sz="4800"/>
            </a:b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960" y="974880"/>
            <a:ext cx="23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99"/>
                </a:solidFill>
                <a:latin typeface="Arial"/>
              </a:rPr>
              <a:t>En la sala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56520" y="290340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1542960" cy="1363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11040" y="29084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333480" y="251460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oc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7012080" y="3365640"/>
            <a:ext cx="1979640" cy="2199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7394400" y="5638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u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33440" y="60199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e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3"/>
          <a:stretch/>
        </p:blipFill>
        <p:spPr>
          <a:xfrm>
            <a:off x="2743200" y="3809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"/>
          <p:cNvSpPr/>
          <p:nvPr/>
        </p:nvSpPr>
        <p:spPr>
          <a:xfrm>
            <a:off x="2702880" y="5410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4"/>
          <a:stretch/>
        </p:blipFill>
        <p:spPr>
          <a:xfrm>
            <a:off x="4915080" y="3581280"/>
            <a:ext cx="1485720" cy="1486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6"/>
          <p:cNvSpPr/>
          <p:nvPr/>
        </p:nvSpPr>
        <p:spPr>
          <a:xfrm>
            <a:off x="4804560" y="51084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oj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743200" y="974880"/>
            <a:ext cx="2008080" cy="20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6"/>
          <a:stretch/>
        </p:blipFill>
        <p:spPr>
          <a:xfrm>
            <a:off x="5662440" y="1655640"/>
            <a:ext cx="2872080" cy="85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7"/>
          <a:stretch/>
        </p:blipFill>
        <p:spPr>
          <a:xfrm>
            <a:off x="193680" y="3429000"/>
            <a:ext cx="2028960" cy="22575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4"/>
          <p:cNvCxnSpPr/>
          <p:nvPr/>
        </p:nvCxnSpPr>
        <p:spPr>
          <a:xfrm>
            <a:off x="1398240" y="4723920"/>
            <a:ext cx="10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ñ</a:t>
            </a: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12880" y="762120"/>
            <a:ext cx="2054160" cy="2238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069920" y="3051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209680" cy="1765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411240" y="23623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963720" y="3733920"/>
            <a:ext cx="1779480" cy="2361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807120" y="62485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lava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6095880" y="3124080"/>
            <a:ext cx="2116080" cy="2210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6453720" y="5334120"/>
            <a:ext cx="16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t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5"/>
          <a:stretch/>
        </p:blipFill>
        <p:spPr>
          <a:xfrm>
            <a:off x="3267000" y="2347920"/>
            <a:ext cx="26100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3661560" y="44989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o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estudi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438280" cy="218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536400" y="31240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057400" cy="140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023160" y="28954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304920" y="3706920"/>
            <a:ext cx="2743200" cy="223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460440" y="5867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60480" y="5486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mpr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6248520" y="3581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6402960" y="5638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5"/>
          <a:stretch/>
        </p:blipFill>
        <p:spPr>
          <a:xfrm>
            <a:off x="3543480" y="377208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6"/>
          <a:stretch/>
        </p:blipFill>
        <p:spPr>
          <a:xfrm>
            <a:off x="3352680" y="1252440"/>
            <a:ext cx="119232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3237840" y="3124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comed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160020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32640" y="27432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1361880" cy="1362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045680" y="2895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s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126684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4065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flo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6019920" y="3657600"/>
            <a:ext cx="15523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683000" y="57913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h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104160" y="5715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um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ám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your DREAM APARTMENT FLOOR PL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YOUR NOTE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labe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5:39:07Z</cp:lastPrinted>
  <dcterms:modified xsi:type="dcterms:W3CDTF">2014-10-03T19:47:24Z</dcterms:modified>
  <cp:revision>23</cp:revision>
  <dc:subject/>
  <dc:title>Me llamo _________ Clase 6 nh/il La fecha es el 10 de marzo del 2011</dc:title>
</cp:coreProperties>
</file>